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95D-42DE-46D5-AC39-98D3A4FE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86C6-4E9C-403A-B737-6DDF5CB9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777-C7EA-493F-9BC3-E4CB2116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7F3-F9DD-47E6-8B61-271FBAD4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5F0-51D7-4629-8004-A131C6E0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1C5-FE2A-4D43-81E0-D971A3FC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E0E4-8A30-4752-8A79-4A6ECEE4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D869-5784-4BBD-ABE0-71C1AA81E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353-3A2C-4757-967F-8289269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9677-434C-4973-A80F-4A7ABE5A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6FD-A805-4B81-8EF2-6582D40B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604-4098-4FA1-960D-6F95E495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F39-9C7F-4733-BEE3-063FD61AF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266760"/>
            <a:ext cx="8763120" cy="659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219320"/>
            <a:ext cx="624852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Mentor u GIZ </a:t>
            </a:r>
            <a:r>
              <a:rPr b="1" lang="sr-Latn-CS" sz="4400" spc="-1" strike="noStrike">
                <a:solidFill>
                  <a:srgbClr val="cc0000"/>
                </a:solidFill>
                <a:latin typeface="Arial"/>
              </a:rPr>
              <a:t>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Profesional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808080"/>
                </a:solidFill>
                <a:latin typeface="Arial"/>
              </a:rPr>
              <a:t>orijentacija na prelasku u srednju školu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-Drugi krug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obu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group mentoring"/>
          <p:cNvPicPr/>
          <p:nvPr/>
        </p:nvPicPr>
        <p:blipFill>
          <a:blip r:embed="rId2"/>
          <a:stretch/>
        </p:blipFill>
        <p:spPr>
          <a:xfrm>
            <a:off x="5076720" y="3860640"/>
            <a:ext cx="345600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907920"/>
            <a:ext cx="720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A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/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 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BOŠ 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78544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TIMU u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PO ŠKOLA KROZ PARTNERST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BOŠ 2 KROZ MENTORSKE SUSRETE I DRUGE VIDOVE RAZME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1532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 BOŠ 2  razvija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partnerstv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BOŠ 2  sa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9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roup mentoring"/>
          <p:cNvPicPr/>
          <p:nvPr/>
        </p:nvPicPr>
        <p:blipFill>
          <a:blip r:embed="rId2"/>
          <a:stretch/>
        </p:blipFill>
        <p:spPr>
          <a:xfrm>
            <a:off x="250920" y="155736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group mentoring"/>
          <p:cNvPicPr/>
          <p:nvPr/>
        </p:nvPicPr>
        <p:blipFill>
          <a:blip r:embed="rId3"/>
          <a:stretch/>
        </p:blipFill>
        <p:spPr>
          <a:xfrm>
            <a:off x="179280" y="4508640"/>
            <a:ext cx="1371600" cy="1162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group mentoring"/>
          <p:cNvPicPr/>
          <p:nvPr/>
        </p:nvPicPr>
        <p:blipFill>
          <a:blip r:embed="rId4"/>
          <a:stretch/>
        </p:blipFill>
        <p:spPr>
          <a:xfrm>
            <a:off x="826920" y="2565360"/>
            <a:ext cx="1524240" cy="11048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group mentoring"/>
          <p:cNvPicPr/>
          <p:nvPr/>
        </p:nvPicPr>
        <p:blipFill>
          <a:blip r:embed="rId5"/>
          <a:stretch/>
        </p:blipFill>
        <p:spPr>
          <a:xfrm>
            <a:off x="7020000" y="1628640"/>
            <a:ext cx="1523880" cy="1197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group mentoring"/>
          <p:cNvPicPr/>
          <p:nvPr/>
        </p:nvPicPr>
        <p:blipFill>
          <a:blip r:embed="rId6"/>
          <a:stretch/>
        </p:blipFill>
        <p:spPr>
          <a:xfrm>
            <a:off x="7308720" y="4365720"/>
            <a:ext cx="1524240" cy="1317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roup mentoring"/>
          <p:cNvPicPr/>
          <p:nvPr/>
        </p:nvPicPr>
        <p:blipFill>
          <a:blip r:embed="rId7"/>
          <a:stretch/>
        </p:blipFill>
        <p:spPr>
          <a:xfrm>
            <a:off x="7164360" y="2492280"/>
            <a:ext cx="1523880" cy="12574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340000" y="2133720"/>
            <a:ext cx="4968720" cy="838080"/>
          </a:xfrm>
          <a:prstGeom prst="leftRightArrow">
            <a:avLst>
              <a:gd name="adj1" fmla="val 50000"/>
              <a:gd name="adj2" fmla="val 1180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9759200">
            <a:off x="3058920" y="2060280"/>
            <a:ext cx="3560760" cy="838080"/>
          </a:xfrm>
          <a:prstGeom prst="leftRightArrow">
            <a:avLst>
              <a:gd name="adj1" fmla="val 50000"/>
              <a:gd name="adj2" fmla="val 845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1760400">
            <a:off x="2987280" y="1989000"/>
            <a:ext cx="3527640" cy="838440"/>
          </a:xfrm>
          <a:prstGeom prst="leftRightArrow">
            <a:avLst>
              <a:gd name="adj1" fmla="val 50000"/>
              <a:gd name="adj2" fmla="val 837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group mentoring"/>
          <p:cNvPicPr/>
          <p:nvPr/>
        </p:nvPicPr>
        <p:blipFill>
          <a:blip r:embed="rId8"/>
          <a:stretch/>
        </p:blipFill>
        <p:spPr>
          <a:xfrm>
            <a:off x="4284720" y="2708280"/>
            <a:ext cx="1079280" cy="129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67640" y="414972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OŠ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9"/>
          <a:stretch/>
        </p:blipFill>
        <p:spPr>
          <a:xfrm>
            <a:off x="1116000" y="3716280"/>
            <a:ext cx="934920" cy="863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0"/>
          <a:stretch/>
        </p:blipFill>
        <p:spPr>
          <a:xfrm>
            <a:off x="6732720" y="3573360"/>
            <a:ext cx="1031760" cy="792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79280" y="342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0" y="3789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BOŠ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12891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Koordina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 B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  i     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KOORDINATORI 9 B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gućnost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BOŠ u MOŠ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ZAJEDNIČKA AKTIVNOST BOŠ/MOŠ TIMO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I VRŠNJAČKIH TIMOVA PO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na lokalu /plan partner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4000" y="90792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Trener B/ MENTOR  MOŠ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484280"/>
            <a:ext cx="87138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DAJE PODRŠKU IMPLEMENTACIJI PROGRA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AKCIJE I MANIFESTACIJE MOŠ  KROZ PARTNERSTVO SA BO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UPUĆUJE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 OSNAŽUJE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TIM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Z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SKE KOMPETENC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PODSTIČE UMREŽAVANJE KROZ PROMOTIVNE AKTIVNOSTI I POVEZIVANJE SA PARTNERIMA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MENTORIŠE MOŠ 2 KROZ MENTORSKE SUSRETE I DRUGE VIDOVE RAZMENE, ZAJEDNO SA MOŠ1</a:t>
            </a: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MENTOR 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mentoriše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2</a:t>
            </a:r>
            <a:br>
              <a:rPr sz="4000"/>
            </a:b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200" spc="-1" strike="noStrike">
                <a:solidFill>
                  <a:srgbClr val="cc0000"/>
                </a:solidFill>
                <a:latin typeface="Arial"/>
              </a:rPr>
              <a:t>zajedno sa</a:t>
            </a:r>
            <a:r>
              <a:rPr b="1" lang="sr-Latn-CS" sz="4000" spc="-1" strike="noStrike">
                <a:solidFill>
                  <a:srgbClr val="cc0000"/>
                </a:solidFill>
                <a:latin typeface="Arial"/>
              </a:rPr>
              <a:t> MOŠ 1</a:t>
            </a:r>
            <a:r>
              <a:rPr b="1" lang="sr-Latn-C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group mentoring"/>
          <p:cNvPicPr/>
          <p:nvPr/>
        </p:nvPicPr>
        <p:blipFill>
          <a:blip r:embed="rId2"/>
          <a:stretch/>
        </p:blipFill>
        <p:spPr>
          <a:xfrm>
            <a:off x="179280" y="1916280"/>
            <a:ext cx="2808360" cy="1990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group mentoring"/>
          <p:cNvPicPr/>
          <p:nvPr/>
        </p:nvPicPr>
        <p:blipFill>
          <a:blip r:embed="rId3"/>
          <a:stretch/>
        </p:blipFill>
        <p:spPr>
          <a:xfrm>
            <a:off x="6156360" y="2205000"/>
            <a:ext cx="2592360" cy="2174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50920" y="3933720"/>
            <a:ext cx="87138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tim 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SARADJUJE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a mentorom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TIM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1 ima plan mentorstv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OŠ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povezivanje 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v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šnjačkih  timova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a PO</a:t>
            </a:r>
            <a:r>
              <a:rPr b="1" lang="sr-Latn-CS" sz="1800" spc="-1" strike="noStrike">
                <a:solidFill>
                  <a:srgbClr val="808080"/>
                </a:solidFill>
                <a:latin typeface="Comic Sans MS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i građenje partnerskih  odnosa sa BO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entor  MOŠ 2 podstiče umrežavanje sa PO partner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32000" y="2708280"/>
            <a:ext cx="2667240" cy="838080"/>
          </a:xfrm>
          <a:prstGeom prst="leftRightArrow">
            <a:avLst>
              <a:gd name="adj1" fmla="val 50000"/>
              <a:gd name="adj2" fmla="val 633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1116000" y="1413000"/>
            <a:ext cx="792000" cy="649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7020000" y="1700280"/>
            <a:ext cx="8636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11280" y="907920"/>
            <a:ext cx="770580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 2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E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 MOŠ 2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ntor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održava implementaciju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omocija, radionice, vršnjački tim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ender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umrežavanje, roditelji, partnerstvo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sa BOŠ 2, specijalizacija …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924280"/>
            <a:ext cx="871380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SKI SASTANAK: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UČESTVUJU    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TIMOV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i  M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Š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/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realni susreti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dobra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praksa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, girl’s day,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akcije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VT…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653000"/>
            <a:ext cx="691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OŠ 1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mentoriše, podržava i prenosi iskustvo MOŠ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da postanu faktor održivosti I razvoja PO na loka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VT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osposobljen za vršnjačku edukacij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rcRect l="8094" t="0" r="11099" b="0"/>
          <a:stretch/>
        </p:blipFill>
        <p:spPr>
          <a:xfrm>
            <a:off x="0" y="836640"/>
            <a:ext cx="5040360" cy="4678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rcRect l="6260" t="8310" r="0" b="14963"/>
          <a:stretch/>
        </p:blipFill>
        <p:spPr>
          <a:xfrm>
            <a:off x="4824360" y="476280"/>
            <a:ext cx="4319640" cy="2651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4365720"/>
            <a:ext cx="3889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O UMREŽAVANJ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0:52:49Z</dcterms:created>
  <dc:creator>vali</dc:creator>
  <dc:description/>
  <dc:language>en-US</dc:language>
  <cp:lastModifiedBy>WINDOWS XP</cp:lastModifiedBy>
  <dcterms:modified xsi:type="dcterms:W3CDTF">2012-02-05T11:30:27Z</dcterms:modified>
  <cp:revision>31</cp:revision>
  <dc:subject/>
  <dc:title>Slide 1</dc:title>
</cp:coreProperties>
</file>